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C90-432D-4F1B-84D4-5B1B52CE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64B-699B-4A76-84C3-922FE45B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BA7-77FE-4326-A5FD-4D467337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E0C-BD85-4A31-9310-1B0A9DF0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91F-C32B-4F4F-A951-9A22444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FA3-43AA-4D2C-B9F6-4B749E3D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107-ECA4-44D6-A4D4-53EB6116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EAC-F436-47A5-B7D0-9617F45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1F2-1980-452D-A588-DAB1456F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843-6EE6-44ED-989B-602AF386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D8A-9B35-4B31-A9EC-E4187717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119-21AE-4BB3-8336-C88A926C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FBF1-0C33-4791-AFBB-69F3E2488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B3C8-DBF7-429C-9480-3284ED81E244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9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060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xpress 3cos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+ 2si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in the form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)  wher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&gt; 0  and 0 ≤  </a:t>
            </a:r>
            <a:r>
              <a:rPr b="0" i="1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&lt;  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DB06-D410-45A6-BD6F-A93225990A08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52140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C57-82EB-41F4-8340-4FD283D83E25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989000"/>
            <a:ext cx="662616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349360"/>
            <a:ext cx="745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rowth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35 Exercise 1     Q1, to Q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raight forward, reminder and to buil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221000"/>
            <a:ext cx="745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cay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ge 236 Exercise 2     Q1, to  Q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member the way  to find the multiplier.  buil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96E-6222-4998-AA4D-BB08020DC3BF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4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am Standard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9564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64911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53B1-E623-4FF3-9629-740A5B07198A}" type="datetime2"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989000"/>
            <a:ext cx="3313080" cy="439272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1916280"/>
            <a:ext cx="3313080" cy="4392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1-25T16:04:49Z</dcterms:modified>
  <cp:revision>38</cp:revision>
  <dc:subject/>
  <dc:title>Slide 1</dc:title>
</cp:coreProperties>
</file>